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2DD-94FD-4B38-A3EC-ADF27598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F7DE-BEC5-4D66-BF33-6D78CC5660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BB08-65A4-4D5D-9AFA-1448294AED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7EC0-EDD7-4430-BF2D-F962A621C1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F3C4-58BD-463B-B9F8-4094D6275E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82D7-BE5B-499C-A62C-A13F05803A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4E3-BCC4-485D-AF33-D188424D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02B-C7C9-4314-94B2-FE472B37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E28-109C-45B7-9BE6-47D4499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CB7-9400-4572-80FD-ECC10629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7722-4395-4453-A5A1-4135499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B14D-5EB4-43E4-B034-A92DAD7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B9B1-B134-42C3-A0C4-1AEE26B0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B1BD-514A-490E-B580-F7823CC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051-49FF-4E83-B0ED-0C02A88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ECD-22CC-45B4-BC4B-9544A3A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F66-F701-4EE3-81FE-938A26A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9A1-F1DA-4E30-A41C-E1D08A9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3765-F4C9-49B2-949C-F718F4B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8B00-114B-468C-B882-C2EFCE5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DD82-E0FF-4A1B-9A55-528C7EAF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F38-2C30-40CC-8F54-8340C19E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6B57-0B56-4D2A-9E80-B11C15F6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824-3610-49AF-A435-3FC9CA6C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34D-3628-4602-AF73-08A957CC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74B-4756-4C45-B921-1A11E76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080-6F5C-460F-B057-69D7643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DDE-F942-43FA-93E8-59AD464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82E-DBD9-4F96-879F-E22ADD0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3C6-7DE6-4701-A4DD-51A87A9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55F-577C-40BB-A96D-F4023D5D5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C7F-EFBE-4437-9197-CDA0A2E04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743200"/>
            <a:ext cx="640080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 your marks, get set, READ!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 Ha Ha (get it)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Music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Music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Owner\Local Settings\Temporary Internet Files\Content.IE5\0T2RG522\MMAG00299_0000[1].gif"/>
          <p:cNvPicPr/>
          <p:nvPr/>
        </p:nvPicPr>
        <p:blipFill>
          <a:blip r:embed="rId3"/>
          <a:stretch/>
        </p:blipFill>
        <p:spPr>
          <a:xfrm>
            <a:off x="4495680" y="190440"/>
            <a:ext cx="3353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29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29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Our Purpose!!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Our purpose is to get every student at   HHS to read one </a:t>
            </a:r>
            <a:r>
              <a:rPr b="1" lang="en-US" sz="6000" spc="-1" strike="noStrike">
                <a:solidFill>
                  <a:srgbClr val="ffb800"/>
                </a:solidFill>
                <a:latin typeface="Comic Sans MS"/>
              </a:rPr>
              <a:t>boo</a:t>
            </a:r>
            <a:r>
              <a:rPr b="0" lang="en-US" sz="6000" spc="-1" strike="noStrike">
                <a:solidFill>
                  <a:srgbClr val="ffb8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a month. c’mon think of it as a sport for your eyes!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http://www.ocpl.lib.ny.us/website/teens/images/teenreads/teens_reading.jpg"/>
          <p:cNvPicPr/>
          <p:nvPr/>
        </p:nvPicPr>
        <p:blipFill>
          <a:blip r:embed="rId1"/>
          <a:stretch/>
        </p:blipFill>
        <p:spPr>
          <a:xfrm>
            <a:off x="2971800" y="4419720"/>
            <a:ext cx="2666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ts Make It Happen but how?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1. have a celebrity or organization come to school and motivate the students to 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2. Give students an opportunity to choose their own books so we should have a book exchange students will swap books with one another by the end of the month they’ll discuss their likes and dislikes of the book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3. have a read a book make movie clu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4. teachers can give extra credit  for every book  each of their  students read a month (prove must be shown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</a:rPr>
              <a:t>5.lets have a book race the one who ever can read the most books in a month wins a big pr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1" descr="C:\Documents and Settings\Owner\Local Settings\Temporary Internet Files\Content.IE5\0T2RG522\MMj02836790000[1].gif"/>
          <p:cNvPicPr/>
          <p:nvPr/>
        </p:nvPicPr>
        <p:blipFill>
          <a:blip r:embed="rId1"/>
          <a:stretch/>
        </p:blipFill>
        <p:spPr>
          <a:xfrm>
            <a:off x="3657600" y="5181480"/>
            <a:ext cx="4648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51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Make announcements about it every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Make posters and put them around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et up a fun assembly in auditori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pass out brochures during l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make calls home to notify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C:\Documents and Settings\Owner\Local Settings\Temporary Internet Files\Content.IE5\1S7KSB44\MCBD08317_0000[1].wmf"/>
          <p:cNvPicPr/>
          <p:nvPr/>
        </p:nvPicPr>
        <p:blipFill>
          <a:blip r:embed="rId1"/>
          <a:stretch/>
        </p:blipFill>
        <p:spPr>
          <a:xfrm>
            <a:off x="0" y="0"/>
            <a:ext cx="1371600" cy="120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Documents and Settings\Owner\Local Settings\Temporary Internet Files\Content.IE5\1S7KSB44\MCBD08317_0000[1].wmf"/>
          <p:cNvPicPr/>
          <p:nvPr/>
        </p:nvPicPr>
        <p:blipFill>
          <a:blip r:embed="rId2"/>
          <a:stretch/>
        </p:blipFill>
        <p:spPr>
          <a:xfrm>
            <a:off x="7086600" y="5648400"/>
            <a:ext cx="1371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6cfa"/>
                </a:solidFill>
                <a:latin typeface="Comic Sans MS"/>
              </a:rPr>
              <a:t>How do we know if our </a:t>
            </a:r>
            <a:r>
              <a:rPr b="0" lang="en-US" sz="4400" spc="-1" strike="noStrike">
                <a:solidFill>
                  <a:srgbClr val="ffd466"/>
                </a:solidFill>
                <a:latin typeface="Comic Sans MS"/>
              </a:rPr>
              <a:t>goal was accomplish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6c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6cfa"/>
                </a:solidFill>
                <a:latin typeface="Comic Sans MS"/>
              </a:rPr>
              <a:t>compare the test result of the gateway and end of course exams from last year with this 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66c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6cfa"/>
                </a:solidFill>
                <a:latin typeface="Comic Sans MS"/>
              </a:rPr>
              <a:t>Give out a parent/student surve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http://wakecounty.files.wordpress.com/2007/10/teens-read.jpg"/>
          <p:cNvPicPr/>
          <p:nvPr/>
        </p:nvPicPr>
        <p:blipFill>
          <a:blip r:embed="rId1"/>
          <a:stretch/>
        </p:blipFill>
        <p:spPr>
          <a:xfrm>
            <a:off x="2133720" y="4191120"/>
            <a:ext cx="5252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34:09Z</dcterms:created>
  <dc:creator>Student</dc:creator>
  <dc:description/>
  <dc:language>en-US</dc:language>
  <cp:lastModifiedBy>aselby</cp:lastModifiedBy>
  <dcterms:modified xsi:type="dcterms:W3CDTF">2008-10-09T14:24:22Z</dcterms:modified>
  <cp:revision>21</cp:revision>
  <dc:subject/>
  <dc:title>Slide 1</dc:title>
</cp:coreProperties>
</file>